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01ADB-E3B2-4F38-AFDA-D9DC57BBB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6BD7C-BCAF-4C8F-961B-E2B6B71F7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1BD78-0584-4A97-910B-232847FD5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9EF25-0F3F-4600-8207-220DC8305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561D3-F0C8-4ECE-A410-8CCDB246A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20D3A-83DA-4F43-9290-1807B6A17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81FF0-74E3-40A3-A78A-5CED5ED45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52462-A91D-4E4F-ACF6-642C23C9E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8A5BC-49EA-4E8D-8287-9815D1F6C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630F1-029B-4A34-8336-9FF61467D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DE3B6-6DCF-4FE3-B905-0BEA366D5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3284B-BAD7-438D-9AEB-CE57B641E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FB72F-B876-49FD-82FE-13D784D4E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9C6BC-19D6-4A27-AA45-E19CA389D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9E492-F588-426B-B23C-0931DD800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3DF95-9C9A-4AE3-965E-612DE9ECC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173E2-6B43-4841-81BD-3249CD04F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8D6FD-2B2F-4423-99C1-DEBC85BE9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D812E-0036-4253-AA1A-641CECCC0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603BC-8618-496D-8746-ED1C4A132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82AB7-B286-494E-B09B-183011CCF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EC63E-474B-4436-B062-421D10A27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BFC2C-3DFE-4F9B-8B58-3E88A3E94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C96E6-B0FF-4DEF-A4F5-0BE3D7DDE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DDFDC-C180-4730-B976-A70299A0CDC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1FF3A-BD76-44DA-964C-5B208EC8D78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Дорожные </a:t>
            </a:r>
            <a:br>
              <a:rPr sz="3400"/>
            </a:b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ситуации – «ловушки»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1905120" y="1828800"/>
            <a:ext cx="5410080" cy="4060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160" y="380880"/>
            <a:ext cx="8001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Ловушки” понижения внима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44625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о дороге, окруженной жилыми домами, зеленью,  редко проезжает транспорт, и создается ложное пред-ставление об отсутствии угрозы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У водителей тоже притуп-ляется внимание, и они едут быстрее обычного, не предполагая появления пе-шеходов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акие дороги часто стано-вятся любимым местом роллеров, скейтбордистов, а также для различных игр, катания на санках и коньках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2514600"/>
            <a:ext cx="792504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5181480" y="2362320"/>
            <a:ext cx="3702240" cy="2417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Ловушки”, подстерегающие возле дома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51920" y="1752480"/>
            <a:ext cx="4800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Нельзя выбегать, не осмотревшись, из-за стоящего транспорта. Если возле дома стоит автомобиль, необходимо помнить, что он может поехать вперед, не подав сигнал, или, что опаснее, – задним ходом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Особенно опасны грузовики-фургоны, такси и автомобили скорой помощи. Водителям грузовиков трудно наблюдать и замечать пешеходов. Такси и “скорая помощь” часто спешат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Проезды у домов часто становятся местом для игр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5486400" y="1600200"/>
            <a:ext cx="2971800" cy="22003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5486400" y="3962520"/>
            <a:ext cx="2971800" cy="233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00100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Ловушки” середины дорог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3927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ешеход, находящийся между потоками движу-щихся автомобилей, сильно испуган и его поведение хаотично и не поддается логике и прогнозу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бзор могут закрывать стоящие рядом пеше-ходы. От большого ко-личества мелькающих рядом автомашин может закружиться голова, и пешеход потеряет равновесие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685800" y="2743200"/>
            <a:ext cx="792468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rcRect l="45026" t="28519" r="3031" b="9096"/>
          <a:stretch/>
        </p:blipFill>
        <p:spPr>
          <a:xfrm>
            <a:off x="5562720" y="1752480"/>
            <a:ext cx="2938320" cy="342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34084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Ловушки” при движении вдоль проезжей части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770256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В эту ситуацию пешеход может попасть, если идет по дороге в нарушение правил дорожного движения, то есть по ходу движения транспортных средств. В этом случае движение автомобилей происходит со спины, и пешеход не видит опасность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Автомобиль на скользкой дороге может вильнуть, или груз выступает за борта – все это грозит пешеходу травмами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Опасные дорожные ситуации – дорожные “ловушки”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95% дорожно-транспортных происшествий с детьми случаются примерно в 30 повторяющихся дорожных ситуациях – “ловушках”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Дорожная ловушка”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– это ситуация на дороге со скрытой  опасностью, к тому же незамеченной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Ловушки” закрытого обзора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3927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Это дорожные ситуации, когда опасность скрыта от пешехода за кустами, деревьями, забором, сугробом, стоящими и движущимися автомобилями, другими пешеходами. Обзору дороги могут мешать повороты, спуски и подъемы самой дороги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5105520" y="3886200"/>
            <a:ext cx="3581280" cy="227664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5105520" y="1523880"/>
            <a:ext cx="3581280" cy="226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534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Ловушки” в зоне остановки маршрутного транспорта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35481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В зоне остановки в ДТП попадает  треть пострадав-ших детей, в ос-новном из-за стоя-щих маршрутных транспортных средств – большой помехи обзору на дороге и спешки пешеходов или пассажиров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rcRect l="0" t="981" r="13762" b="0"/>
          <a:stretch/>
        </p:blipFill>
        <p:spPr>
          <a:xfrm>
            <a:off x="4038480" y="2133720"/>
            <a:ext cx="4419720" cy="303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611280" y="260280"/>
            <a:ext cx="80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ОСТАНОВКА ЭТО ВАЖНАЯ ЧАСТЬ ДОРОГ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0" y="2349360"/>
            <a:ext cx="4211640" cy="30546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4748040" y="2349360"/>
            <a:ext cx="4395960" cy="302436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403280" y="5530320"/>
            <a:ext cx="7534440" cy="1015560"/>
          </a:xfrm>
          <a:prstGeom prst="roundRect">
            <a:avLst>
              <a:gd name="adj" fmla="val 16593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ЗАПОМНИ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а остановке никогда нельзя стоять у кромки тротуара. Тебя нечаянно могут толкнуть, и ты окажешься под колес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48000" y="3716280"/>
            <a:ext cx="1297080" cy="1008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846920" y="3357720"/>
            <a:ext cx="1297080" cy="1008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4"/>
          <a:stretch/>
        </p:blipFill>
        <p:spPr>
          <a:xfrm>
            <a:off x="395280" y="4941720"/>
            <a:ext cx="917640" cy="17002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539640" y="850320"/>
            <a:ext cx="8212320" cy="13201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Ждать автобус, троллейбус или трамвай нужно только на остановках – местах, обозначенных такими знаками, как на рисунках. А там, где их нет– на тротуаре. В сельской местности, если нет оборудованной остановки, автобус ждут на обочине дорог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xit" presetID="11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" dur="10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xit" presetID="11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" dur="10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800100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Ловушки” на пешеходном переход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3927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Обычно думают, что пешеходный переход – это безопасная зона, на которой с пешеходом ничего не может случиться. А ведь и здесь остановившийся автомобиль может скрывать движущийся, равно как и проехавший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4800600" y="1676520"/>
            <a:ext cx="3886200" cy="20955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4792680" y="3941640"/>
            <a:ext cx="3894120" cy="203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264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Ловушки” на углу перекрестка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3927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Опасность на углу перекрестка состоит в том, что автотранспорт может поворачивать направо, при этом и водителю, и пешеходу горит зеленый сигнал.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Иногда задние колеса автобусов, грузовиков, прицепов оказываются очень близко к тротуару, бывает неопытный водитель выезжает на “бровку” тротуара, к тому же автотранспорт может быть с прицепом или буксировать другой автомобиль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"/>
          <p:cNvSpPr/>
          <p:nvPr/>
        </p:nvSpPr>
        <p:spPr>
          <a:xfrm>
            <a:off x="685800" y="2743200"/>
            <a:ext cx="792468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4640400" y="2544840"/>
            <a:ext cx="3927240" cy="268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800100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Ловушки” у светофор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3195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У светофора, нельзя забывать, что на дороге могут возникнуть самые непредвиденные обстоятельства, например, поедут на красный сигнал спецавтомашины (скорая помощь, милиция, пожарная); могут быть и водители, нарушающие ПДД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Нередко и сами пешеходы, как взрослые, так и дети, переходят дорогу на красный сигнал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"/>
          <p:cNvSpPr/>
          <p:nvPr/>
        </p:nvSpPr>
        <p:spPr>
          <a:xfrm>
            <a:off x="838080" y="2895480"/>
            <a:ext cx="7925040" cy="28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4114800" y="2057400"/>
            <a:ext cx="4876920" cy="307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Ловушки” отвлечения внима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8530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Пешеход не замечает опасность, потому что его взгляд прико-ван к интересую-щему его предмету – автобус на другой стороне дороги, при-ятель, мяч, собака, лужа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К дорожным “ловуш-кам” могут привести и еще два изобрете-ния – плеер и мобильный телефон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rcRect l="0" t="0" r="0" b="5202"/>
          <a:stretch/>
        </p:blipFill>
        <p:spPr>
          <a:xfrm>
            <a:off x="4876920" y="3962520"/>
            <a:ext cx="3581280" cy="20574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rcRect l="19171" t="2190" r="5766" b="0"/>
          <a:stretch/>
        </p:blipFill>
        <p:spPr>
          <a:xfrm>
            <a:off x="4876920" y="1676520"/>
            <a:ext cx="3593880" cy="21398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2-01-22T13:29:42Z</dcterms:modified>
  <cp:revision>3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