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1BDF-3FD7-4B78-AA7C-74F78C93C0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F857-1B01-407C-9908-0AD67850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D83C-C7C9-4A55-BC49-6641F6B8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248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424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9072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4248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9424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B04DD-F295-4CED-8A73-5E80964F6C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2B53-C458-4A5F-B164-4E3B4315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9E51-87DB-48AA-B06C-23A58F0F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24F69-F06F-49DB-8FCA-654D3B41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8C81-9738-4A75-8E24-08C7D7B3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90720" y="-214200"/>
            <a:ext cx="7842240" cy="107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31E2-60CA-4289-AF64-C2EAC0AC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03A3-2E46-401C-BB3A-B23B59F1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FA6A-C352-4ECE-A028-BAB9AEED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410C-A34D-47ED-BA70-9D5AED7E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700" spc="-1" strike="noStrike">
                <a:solidFill>
                  <a:srgbClr val="2e3917"/>
                </a:solidFill>
                <a:latin typeface="Calibri"/>
              </a:rPr>
              <a:t>Click to edit the title text format</a:t>
            </a: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3400" y="7005600"/>
            <a:ext cx="3192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2268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502DEC-E205-4E87-A5EC-669E3772BD4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1872._&#1055;&#1086;&#1088;&#1090;&#1088;&#1077;&#1090;_&#1087;&#1080;&#1089;&#1072;&#1090;&#1077;&#1083;&#1103;_&#1042;&#1083;&#1072;&#1076;&#1080;&#1084;&#1080;&#1088;&#1072;_&#1048;&#1074;&#1072;&#1085;&#1086;&#1074;&#1080;&#1095;&#1072;_&#1044;&#1072;&#1083;&#1103;.jpg?uselang=r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8360" y="-181440"/>
            <a:ext cx="89280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5400" spc="-1" strike="noStrike">
                <a:solidFill>
                  <a:srgbClr val="16165d"/>
                </a:solidFill>
                <a:latin typeface="Monotype Corsiva"/>
              </a:rPr>
              <a:t>Он открыл рудник словесный…»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90720" y="1810800"/>
            <a:ext cx="797400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клад В. И. Даля в становление словарного дела в России.</a:t>
            </a: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рок русского языка в 7 классе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кова Татьяна Юрьевна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 1359 г. Москвы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/17 учебный год</a:t>
            </a:r>
            <a:endParaRPr b="0" lang="en-US" sz="16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Читаем, рас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55280" y="1116000"/>
            <a:ext cx="8215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В.И.Даля является делом всей его жизни. Однако о своем труде этот великий человек сказал скромно: «Я любил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изн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нес ей должную мною крупицу по силам». Можем ли мы такое бескорыстное служение России считать подвигом? Что такое подвиг? Только ли героический поступок, яркое проявление самопожертвования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55280" y="-541800"/>
            <a:ext cx="842508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словарям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55280" y="61128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пишите из школьного толкового словаря определение слова «подвиг»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м ли мы считать подвигом создание словаря?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кими качествами обладал В. И. Даль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чем проявился патриотизм этого великого человека? Для ответа на вопрос, используйте словарную статью к слову «патриотизм». Работа с толковым словарем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Запишите близкие по лексическому значению слова к выделенному слову. Проверьте себя по словарю синонимов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кажите, в каком случае слова Родина, Отечество, Отчизна пишутся с прописной буквы, а в каком - со строчной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842508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общаем, размышля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4360" y="169236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 и скажите, как связаны тема урока, эпиграф к нему и значение труда В.И.Даля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2" name="Picture 2" descr="http://ru.timetodraft.com/upload/blog/578eda576b8b7.jpg"/>
          <p:cNvPicPr/>
          <p:nvPr/>
        </p:nvPicPr>
        <p:blipFill>
          <a:blip r:embed="rId1"/>
          <a:stretch/>
        </p:blipFill>
        <p:spPr>
          <a:xfrm>
            <a:off x="2735280" y="3348000"/>
            <a:ext cx="5794200" cy="3952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общаем, размышля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ние состоит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лько  в запасе сведений,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умении  найти нужные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в книг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 Я. Брюсов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ны ли вы с мнением В. Я. Брюсова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шите жизненную ситуацию, в которой невозможно обойтись без словаря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5" name="Picture 2" descr="C:\Users\Samsung\Desktop\Словарный урок\telecom_termini[1].jpg"/>
          <p:cNvPicPr/>
          <p:nvPr/>
        </p:nvPicPr>
        <p:blipFill>
          <a:blip r:embed="rId1"/>
          <a:stretch/>
        </p:blipFill>
        <p:spPr>
          <a:xfrm>
            <a:off x="1246320" y="971640"/>
            <a:ext cx="24987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Подводим  итоги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му «Словарь», «В.И.Даль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выбор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высказывания: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л… - Теперь я знаю…; Сегодня я понял …; Мне особенно понравилось …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8" name="Picture 2" descr="https://cv0.litres.ru/static/bookimages/22/84/47/22844705.bin.dir/22844705.cover.jpg"/>
          <p:cNvPicPr/>
          <p:nvPr/>
        </p:nvPicPr>
        <p:blipFill>
          <a:blip r:embed="rId1"/>
          <a:stretch/>
        </p:blipFill>
        <p:spPr>
          <a:xfrm>
            <a:off x="4103640" y="3924360"/>
            <a:ext cx="3419640" cy="341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ъясняем домашнее задание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 на выбор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писать сочинение-миниатюру на тему «Почему труд В.И.Даля можно назвать подвигом?»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я понимаю высказывание: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бойтесь заглядывать в словарь,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ышный сад, а не  унылая пропасть»?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й ответ на поставленный вопрос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дание для группы (3 человека). Используя информацию, полученную на уроке, а также сведения из интернет-ресурсов, подготовьте вопросы по теме сегодняшнего урока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ем «Ромашка Блума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точняющие вопросы («Насколько я понял, …?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претирующие вопросы (объясняющие) («Почему…?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ие вопросы (прогноз)  - «Как вы думаете, что произойдёт, если…»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егодня очень хорошо потрудились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83" name="Picture 2" descr="http://www.cdpprofi.ru/datas/dictionary/dictionary.jpg"/>
          <p:cNvPicPr/>
          <p:nvPr/>
        </p:nvPicPr>
        <p:blipFill>
          <a:blip r:embed="rId1"/>
          <a:stretch/>
        </p:blipFill>
        <p:spPr>
          <a:xfrm>
            <a:off x="1800360" y="3273480"/>
            <a:ext cx="80676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55280" y="611280"/>
            <a:ext cx="8280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зентации использованы фотографии и картинки из интернет-ресурсов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ндекс. Картинки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yandex.ru/images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пределите тему и основную мысль стихотворения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олшебная стран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пахнута пред вам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, которая слов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людьми, населе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 ими Государь по прозванию Словар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носится он к ни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к подданным свои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ть ему не ново, как писать какое слов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исать и как чита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 другими сочетать…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.Козловский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мы будем говорить сегодня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5" name="Picture 8" descr="http://www.vestikavkaza.ru/upload/fnorm/iblock/2bb/del04-15.jpg"/>
          <p:cNvPicPr/>
          <p:nvPr/>
        </p:nvPicPr>
        <p:blipFill>
          <a:blip r:embed="rId1"/>
          <a:stretch/>
        </p:blipFill>
        <p:spPr>
          <a:xfrm>
            <a:off x="6335640" y="1332000"/>
            <a:ext cx="342900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эпиграфу нашего урока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варь –  это Вселенная,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ная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лфавитном порядке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Франс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ны ли вы с высказыванием А. Франса? Аргументируйте свой ответ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8" name="Picture 6" descr="C:\Users\Samsung\Desktop\Словарный урок\книги.jpg"/>
          <p:cNvPicPr/>
          <p:nvPr/>
        </p:nvPicPr>
        <p:blipFill>
          <a:blip r:embed="rId1"/>
          <a:stretch/>
        </p:blipFill>
        <p:spPr>
          <a:xfrm>
            <a:off x="1727280" y="1262160"/>
            <a:ext cx="3097080" cy="3570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55280" y="-10836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Знаете ли вы, о ком данное высказывание?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Он откры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1536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удник словесный…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ком пойдет речь на нашем уроке?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объясните метафору, заложенную в представленном высказывании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уйте тему нашего урока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целей мы должны достигнуть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51" name="Picture 2" descr="1872. Портрет писателя Владимира Ивановича Даля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00360" y="1258920"/>
            <a:ext cx="2543040" cy="298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47640" y="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Думаем, размышляем, предполаг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-41580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е, что объединяет слова «азбуковник», «глоссарий», «словник»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-41580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дать определение понятию «словарь»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думаете, словарь – это современное изобретение человечества? Аргументируйте свой ответ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положите, сколько лет словарному делу в России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54" name="Picture 4" descr="http://tse2.mm.bing.net/th?id=OIP.Md8da5e233e60b7d5d2ebf0899fc17021H1"/>
          <p:cNvPicPr/>
          <p:nvPr/>
        </p:nvPicPr>
        <p:blipFill>
          <a:blip r:embed="rId1"/>
          <a:stretch/>
        </p:blipFill>
        <p:spPr>
          <a:xfrm>
            <a:off x="1800360" y="27000"/>
            <a:ext cx="220644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clipartix.com/wp-content/uploads/2016/05/Man-thinking-clip-art-illustration-illustrations-by-leo-clipartcow-2.jpg"/>
          <p:cNvPicPr/>
          <p:nvPr/>
        </p:nvPicPr>
        <p:blipFill>
          <a:blip r:embed="rId1"/>
          <a:stretch/>
        </p:blipFill>
        <p:spPr>
          <a:xfrm>
            <a:off x="7486560" y="499428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00000" y="-25236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Вспоминаем, обобщ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55280" y="82692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таблице «Виды лингвистических словарей и их значение» частично заполнены ячейки верхней строки таблицы.  Вам необходимо самостоятельно заполнить кластеры – вписать в пустые верхние ячейки  недостающие виды словарей, а в нижние – их значение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в парах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о интерактивной доске с обсуждением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Слушаем, систематизиру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71640" y="1287360"/>
            <a:ext cx="8215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класс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полнение таблицы «Известное/Ново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Лингвист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«Основные типы словарей. Энциклопедические и лингвистически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«Основные этапы развития словарного дела в России. Первые словарные труд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суждение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 того, что вы услышали, было уже знакомо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новые сведения о словарях узнали? 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Вспоминаем, рас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71640" y="1287360"/>
            <a:ext cx="8215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етий лишний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варь синонимов, фразеологический словарь, философский словарь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уязычный, одноязычный, этимологический.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оссарий, азбуковник, лексикография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62" name="Picture 2" descr="http://images.bwog.com/wp-content/uploads/2012/12/shutterstock_108839963-250x174.jpg"/>
          <p:cNvPicPr/>
          <p:nvPr/>
        </p:nvPicPr>
        <p:blipFill>
          <a:blip r:embed="rId1"/>
          <a:stretch/>
        </p:blipFill>
        <p:spPr>
          <a:xfrm>
            <a:off x="5904000" y="4716360"/>
            <a:ext cx="3936960" cy="273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Слуша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64800" y="1127160"/>
            <a:ext cx="8215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Биограф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учебного видеоролика на тему «Вклад В.И.Даля в развитие словарного дела в России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класс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дготовить ”Толстые” и “тонкие” вопросы по теме учебного фильма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65" name="Picture 2" descr="http://www.stihi.ru/pics/2014/09/29/4229.jpg"/>
          <p:cNvPicPr/>
          <p:nvPr/>
        </p:nvPicPr>
        <p:blipFill>
          <a:blip r:embed="rId1"/>
          <a:stretch/>
        </p:blipFill>
        <p:spPr>
          <a:xfrm>
            <a:off x="3456000" y="4359240"/>
            <a:ext cx="46735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5:47:31Z</dcterms:created>
  <dc:creator/>
  <dc:description/>
  <dc:language>en-US</dc:language>
  <cp:lastModifiedBy>Samsung</cp:lastModifiedBy>
  <dcterms:modified xsi:type="dcterms:W3CDTF">2016-09-15T07:46:54Z</dcterms:modified>
  <cp:revision>57</cp:revision>
  <dc:subject/>
  <dc:title>Моё классное руководство </dc:title>
</cp:coreProperties>
</file>