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B7A8-6934-4778-B146-A38D632B0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93CC-E1D1-4E2F-A486-8460BD7D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7869-7494-4A48-A8CD-31AFB48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BF27-5B4D-40A2-9996-358AE4E2A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14CC-41DC-47C6-A813-72E9A18C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C451-D610-4595-B252-7ED4039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8E4B-757E-4285-A9CE-D8A06F32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F720-21FB-4892-8F91-12524E37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6BC0-E70B-455B-B214-0681867E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BF82-A564-4B5A-AAD6-E9244D8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8C4E-C919-4D82-99EA-E0E622D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AAD9-4126-4F60-B411-07EBAE3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34E271-3ED2-460A-9D21-CC5BE5DF840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1872._&#1055;&#1086;&#1088;&#1090;&#1088;&#1077;&#1090;_&#1087;&#1080;&#1089;&#1072;&#1090;&#1077;&#1083;&#1103;_&#1042;&#1083;&#1072;&#1076;&#1080;&#1084;&#1080;&#1088;&#1072;_&#1048;&#1074;&#1072;&#1085;&#1086;&#1074;&#1080;&#1095;&#1072;_&#1044;&#1072;&#1083;&#1103;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8360" y="-181440"/>
            <a:ext cx="892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16165d"/>
                </a:solidFill>
                <a:latin typeface="Monotype Corsiva"/>
              </a:rPr>
              <a:t>Он открыл рудник словесный…»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90720" y="1810800"/>
            <a:ext cx="797400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клад В. И. Даля в становление словарного дела в России.</a:t>
            </a: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 русского языка в 7 класс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кова Татьяна Юрь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1359 г. Москв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/17 учебный год</a:t>
            </a: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Чит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В.И.Даля является делом всей его жизни. Однако о своем труде этот великий человек сказал скромно: «Я люби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из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ес ей должную мною крупицу по силам». Можем ли мы такое бескорыстное служение России считать подвигом? Что такое подвиг? Только ли героический поступок, яркое проявление самопожертвования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5280" y="-541800"/>
            <a:ext cx="84250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словарям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шите из школьного толкового словаря определение слова «подвиг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читать подвигом создание словаря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ми качествами обладал В. И. Даль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чем проявился патриотизм этого великого человека? Для ответа на вопрос, используйте словарную статью к слову «патриотизм». Работа с толковым словаре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ишите близкие по лексическому значению слова к выделенному слову. Проверьте себя по словарю синонимов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кажите, в каком случае слова Родина, Отечество, Отчизна пишутся с прописной буквы, а в каком - со строчной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84250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69236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и скажите, как связаны тема урока, эпиграф к нему и значение труда В.И.Даля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2" name="Picture 2" descr="http://ru.timetodraft.com/upload/blog/578eda576b8b7.jpg"/>
          <p:cNvPicPr/>
          <p:nvPr/>
        </p:nvPicPr>
        <p:blipFill>
          <a:blip r:embed="rId1"/>
          <a:stretch/>
        </p:blipFill>
        <p:spPr>
          <a:xfrm>
            <a:off x="2735280" y="3348000"/>
            <a:ext cx="57942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 состоит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лько  в запасе сведений,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умении  найти нужные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книг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Я. Брюсов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мнением В. Я. Брюсова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те жизненную ситуацию, в которой невозможно обойтись без словар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5" name="Picture 2" descr="C:\Users\Samsung\Desktop\Словарный урок\telecom_termini[1].jpg"/>
          <p:cNvPicPr/>
          <p:nvPr/>
        </p:nvPicPr>
        <p:blipFill>
          <a:blip r:embed="rId1"/>
          <a:stretch/>
        </p:blipFill>
        <p:spPr>
          <a:xfrm>
            <a:off x="1246320" y="97164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«Словарь», «В.И.Даль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ыбор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высказывания: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… - Теперь я знаю…; Сегодня я понял …; Мне особенно понравилось …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8" name="Picture 2" descr="https://cv0.litres.ru/static/bookimages/22/84/47/22844705.bin.dir/22844705.cover.jpg"/>
          <p:cNvPicPr/>
          <p:nvPr/>
        </p:nvPicPr>
        <p:blipFill>
          <a:blip r:embed="rId1"/>
          <a:stretch/>
        </p:blipFill>
        <p:spPr>
          <a:xfrm>
            <a:off x="4103640" y="3924360"/>
            <a:ext cx="341964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ъясняем домашнее задание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исать сочинение-миниатюру на тему «Почему труд В.И.Даля можно назвать подвигом?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я понимаю высказывание: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ойтесь заглядывать в словарь,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ышный сад, а не  унылая пропасть»?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 ответ на поставленный вопрос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ние для группы (3 человека). Используя информацию, полученную на уроке, а также сведения из интернет-ресурсов, подготовьте вопросы по теме сегодняшнего урока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«Ромашка Блума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щие вопросы («Насколько я понял, 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претирующие вопросы (объясняющие) («Почему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вопросы (прогноз)  - «Как вы думаете, что произойдёт, если…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3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280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использованы фотографии и картинки из интернет-ресурсов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ндекс. Картинки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лшебная стра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пахнута пред ва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которая слов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дьми, насел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 ими Государь по прозванию Словар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сится он к ни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к подданным свои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ть ему не ново, как писать какое сло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исать и как чит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 другими сочетать…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Козловский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5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ь –  это Вселенная,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ая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фавитном порядке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Фран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высказыванием А. Франса? Аргументируйте свой ответ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" name="Picture 6" descr="C:\Users\Samsung\Desktop\Словарный урок\книги.jpg"/>
          <p:cNvPicPr/>
          <p:nvPr/>
        </p:nvPicPr>
        <p:blipFill>
          <a:blip r:embed="rId1"/>
          <a:stretch/>
        </p:blipFill>
        <p:spPr>
          <a:xfrm>
            <a:off x="1727280" y="1262160"/>
            <a:ext cx="309708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Он откры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удник словесный…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ом пойдет речь на нашем уроке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бъясните метафору, заложенную в представленном высказыван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уйте тему нашего урока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целей мы должны достигнуть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1" name="Picture 2" descr="1872. Портрет писателя Владимира Ивановича Дал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0360" y="1258920"/>
            <a:ext cx="25430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 объединяет слова «азбуковник», «глоссарий», «словник»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ать определение понятию «словарь»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словарь – это современное изобретение человечества? Аргументируйте свой ответ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, сколько лет словарному делу в России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4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обобщ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таблице «Виды лингвистических словарей и их значение» частично заполнены ячейки верхней строки таблицы.  Вам необходимо самостоятельно заполнить кластеры – вписать в пустые верхние ячейки  недостающие виды словарей, а в нижние – их значение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парах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интерактивной доске с обсуждением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систематизиру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полнение таблицы «Известное/Ново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Лингвист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Основные типы словарей. Энциклопедические и лингвистически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Основные этапы развития словарного дела в России. Первые словарные труд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уждени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того, что вы услышали, было уже знакомо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овые сведения о словарях узнали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рь синонимов, фразеологический словарь, философский словарь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язычный, одноязычный, этимологический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ссарий, азбуковник, лексикографи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2" name="Picture 2" descr="http://images.bwog.com/wp-content/uploads/2012/12/shutterstock_108839963-250x174.jpg"/>
          <p:cNvPicPr/>
          <p:nvPr/>
        </p:nvPicPr>
        <p:blipFill>
          <a:blip r:embed="rId1"/>
          <a:stretch/>
        </p:blipFill>
        <p:spPr>
          <a:xfrm>
            <a:off x="5904000" y="4716360"/>
            <a:ext cx="39369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64800" y="112716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Биограф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учебного видеоролика на тему «Вклад В.И.Даля в развитие словарного дела в России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ить ”Толстые” и “тонкие” вопросы по теме учебного фильма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5" name="Picture 2" descr="http://www.stihi.ru/pics/2014/09/29/4229.jpg"/>
          <p:cNvPicPr/>
          <p:nvPr/>
        </p:nvPicPr>
        <p:blipFill>
          <a:blip r:embed="rId1"/>
          <a:stretch/>
        </p:blipFill>
        <p:spPr>
          <a:xfrm>
            <a:off x="3456000" y="4359240"/>
            <a:ext cx="4673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Samsung</cp:lastModifiedBy>
  <dcterms:modified xsi:type="dcterms:W3CDTF">2016-09-15T07:46:54Z</dcterms:modified>
  <cp:revision>57</cp:revision>
  <dc:subject/>
  <dc:title>Моё классное руководство </dc:title>
</cp:coreProperties>
</file>