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5E659-C338-4C40-BA9B-F451B738EF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78422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90720" y="4416840"/>
            <a:ext cx="78422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F41B3-0DCB-40F7-B486-B1148A47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9072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0940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79A11-E52A-4A89-8B5A-4241135E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42480" y="181116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94240" y="181116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90720" y="441684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42480" y="441684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94240" y="441684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7A953-74D3-40AA-B7B9-99C4CDDDC5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4760F-B839-400F-8E0C-AC972BE2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3B0C7-C36A-4028-85FB-1379C2B0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24363-55FD-4FE2-938A-A9723C0D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97484-8DA5-45C9-AFBD-3B7FC97A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90720" y="-214200"/>
            <a:ext cx="7842240" cy="107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2FB3B-560B-424A-A6D2-51B3F52C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9072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2C4FC-EE5F-439A-AFBF-F13DFC11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0940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A0C37-8F94-452F-9AEE-907040F6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90720" y="4416840"/>
            <a:ext cx="78422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F9CBB-6548-4E00-9AF6-86FB9881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700" spc="-1" strike="noStrike">
                <a:solidFill>
                  <a:srgbClr val="2e3917"/>
                </a:solidFill>
                <a:latin typeface="Calibri"/>
              </a:rPr>
              <a:t>Click to edit the title text format</a:t>
            </a: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1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2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3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4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5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6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5240"/>
            <a:ext cx="23511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3400" y="7005600"/>
            <a:ext cx="3192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22680" y="7005240"/>
            <a:ext cx="23511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C44876-379F-4467-A2A9-5D4D3D4FA1E8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iki/File:1872._&#1055;&#1086;&#1088;&#1090;&#1088;&#1077;&#1090;_&#1087;&#1080;&#1089;&#1072;&#1090;&#1077;&#1083;&#1103;_&#1042;&#1083;&#1072;&#1076;&#1080;&#1084;&#1080;&#1088;&#1072;_&#1048;&#1074;&#1072;&#1085;&#1086;&#1074;&#1080;&#1095;&#1072;_&#1044;&#1072;&#1083;&#1103;.jpg?uselang=ru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8360" y="-181440"/>
            <a:ext cx="89280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1" lang="ru-RU" sz="5400" spc="-1" strike="noStrike">
                <a:solidFill>
                  <a:srgbClr val="16165d"/>
                </a:solidFill>
                <a:latin typeface="Monotype Corsiva"/>
              </a:rPr>
              <a:t>Он открыл рудник словесный…»</a:t>
            </a: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90720" y="1810800"/>
            <a:ext cx="7974000" cy="54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клад В. И. Даля в становление словарного дела в России.</a:t>
            </a:r>
            <a:endParaRPr b="0" lang="en-US" sz="40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рок русского языка в 7 классе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кова Татьяна Юрьевна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Школа № 1359 г. Москвы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 /17 учебный год</a:t>
            </a:r>
            <a:endParaRPr b="0" lang="en-US" sz="16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-252360"/>
            <a:ext cx="84247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Читаем, рас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55280" y="1116000"/>
            <a:ext cx="8215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 В.И.Даля является делом всей его жизни. Однако о своем труде этот великий человек сказал скромно: «Я любил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изн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инес ей должную мною крупицу по силам». Можем ли мы такое бескорыстное служение России считать подвигом? Что такое подвиг? Только ли героический поступок, яркое проявление самопожертвования?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55280" y="-541800"/>
            <a:ext cx="842508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ратимся к словарям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55280" y="611280"/>
            <a:ext cx="842508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ыпишите из школьного толкового словаря определение слова «подвиг»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м ли мы считать подвигом создание словаря? 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акими качествами обладал В. И. Даль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 чем проявился патриотизм этого великого человека? Для ответа на вопрос, используйте словарную статью к слову «патриотизм». Работа с толковым словарем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Запишите близкие по лексическому значению слова к выделенному слову. Проверьте себя по словарю синонимов 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Скажите, в каком случае слова Родина, Отечество, Отчизна пишутся с прописной буквы, а в каком - со строчной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5280" y="0"/>
            <a:ext cx="842508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общаем, размышляем, об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4360" y="1692360"/>
            <a:ext cx="8424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 и скажите, как связаны тема урока, эпиграф к нему и значение труда В.И.Даля?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72" name="Picture 2" descr="http://ru.timetodraft.com/upload/blog/578eda576b8b7.jpg"/>
          <p:cNvPicPr/>
          <p:nvPr/>
        </p:nvPicPr>
        <p:blipFill>
          <a:blip r:embed="rId1"/>
          <a:stretch/>
        </p:blipFill>
        <p:spPr>
          <a:xfrm>
            <a:off x="2735280" y="3348000"/>
            <a:ext cx="5794200" cy="3952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1520" y="-108360"/>
            <a:ext cx="853920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общаем, размышляем, об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38360" y="971640"/>
            <a:ext cx="8424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нание состоит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олько  в запасе сведений,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умении  найти нужные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в книге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. Я. Брюсов)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гласны ли вы с мнением В. Я. Брюсова?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ишите жизненную ситуацию, в которой невозможно обойтись без словаря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75" name="Picture 2" descr="C:\Users\Samsung\Desktop\Словарный урок\telecom_termini[1].jpg"/>
          <p:cNvPicPr/>
          <p:nvPr/>
        </p:nvPicPr>
        <p:blipFill>
          <a:blip r:embed="rId1"/>
          <a:stretch/>
        </p:blipFill>
        <p:spPr>
          <a:xfrm>
            <a:off x="1246320" y="971640"/>
            <a:ext cx="249876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41520" y="-108360"/>
            <a:ext cx="853920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Подводим  итоги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38360" y="971640"/>
            <a:ext cx="8424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вейн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ему «Словарь», «В.И.Даль»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выбор)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те высказывания: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знал… - Теперь я знаю…; Сегодня я понял …; Мне особенно понравилось …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78" name="Picture 2" descr="https://cv0.litres.ru/static/bookimages/22/84/47/22844705.bin.dir/22844705.cover.jpg"/>
          <p:cNvPicPr/>
          <p:nvPr/>
        </p:nvPicPr>
        <p:blipFill>
          <a:blip r:embed="rId1"/>
          <a:stretch/>
        </p:blipFill>
        <p:spPr>
          <a:xfrm>
            <a:off x="4103640" y="3924360"/>
            <a:ext cx="3419640" cy="3417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1520" y="-396720"/>
            <a:ext cx="85392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ъясняем домашнее задание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55640" y="611280"/>
            <a:ext cx="87854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ашнее задание на выбор.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писать сочинение-миниатюру на тему «Почему труд В.И.Даля можно назвать подвигом?»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я понимаю высказывание: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 бойтесь заглядывать в словарь,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ышный сад, а не  унылая пропасть»?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ый ответ на поставленный вопрос.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дание для группы (3 человека). Используя информацию, полученную на уроке, а также сведения из интернет-ресурсов, подготовьте вопросы по теме сегодняшнего урока 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ем «Ромашка Блума»)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точняющие вопросы («Насколько я понял, …?»)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рпретирующие вопросы (объясняющие) («Почему…?»)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ворческие вопросы (прогноз)  - «Как вы думаете, что произойдёт, если…»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1520" y="-396720"/>
            <a:ext cx="85392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6165d"/>
              </a:solidFill>
              <a:latin typeface="Monotype Corsiv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55640" y="611280"/>
            <a:ext cx="87854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егодня очень хорошо потрудились!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!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83" name="Picture 2" descr="http://www.cdpprofi.ru/datas/dictionary/dictionary.jpg"/>
          <p:cNvPicPr/>
          <p:nvPr/>
        </p:nvPicPr>
        <p:blipFill>
          <a:blip r:embed="rId1"/>
          <a:stretch/>
        </p:blipFill>
        <p:spPr>
          <a:xfrm>
            <a:off x="1800360" y="3273480"/>
            <a:ext cx="8067600" cy="2676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1520" y="-396720"/>
            <a:ext cx="85392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6165d"/>
              </a:solidFill>
              <a:latin typeface="Monotype Corsiv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55280" y="611280"/>
            <a:ext cx="82803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зентации использованы фотографии и картинки из интернет-ресурсов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ндекс. Картинки)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yandex.ru/images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5280" y="-18000"/>
            <a:ext cx="828036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пределите тему и основную мысль стихотворения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90720" y="1403280"/>
            <a:ext cx="8190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7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57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волшебная стран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распахнута пред вам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, которая словам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людьми, населен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т ими Государь по прозванию Словар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тносится он к ни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о к подданным свои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57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ть ему не ново, как писать какое слово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исать и как читат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 другими сочетать…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.Козловский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57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мы будем говорить сегодня на уроке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45" name="Picture 8" descr="http://www.vestikavkaza.ru/upload/fnorm/iblock/2bb/del04-15.jpg"/>
          <p:cNvPicPr/>
          <p:nvPr/>
        </p:nvPicPr>
        <p:blipFill>
          <a:blip r:embed="rId1"/>
          <a:stretch/>
        </p:blipFill>
        <p:spPr>
          <a:xfrm>
            <a:off x="6335640" y="1332000"/>
            <a:ext cx="3429000" cy="2361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55280" y="-18000"/>
            <a:ext cx="828036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ратимся к эпиграфу нашего урока 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90720" y="1403280"/>
            <a:ext cx="8190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оварь –  это Вселенная,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ная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лфавитном порядке»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.Франс)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гласны ли вы с высказыванием А. Франса? Аргументируйте свой ответ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48" name="Picture 6" descr="C:\Users\Samsung\Desktop\Словарный урок\книги.jpg"/>
          <p:cNvPicPr/>
          <p:nvPr/>
        </p:nvPicPr>
        <p:blipFill>
          <a:blip r:embed="rId1"/>
          <a:stretch/>
        </p:blipFill>
        <p:spPr>
          <a:xfrm>
            <a:off x="1727280" y="1262160"/>
            <a:ext cx="3097080" cy="3570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55280" y="-108360"/>
            <a:ext cx="828036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Знаете ли вы, о ком данное высказывание? 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90720" y="1403280"/>
            <a:ext cx="8190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Он открыл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1536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удник словесный…»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ком пойдет речь на нашем уроке? 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объясните метафору, заложенную в представленном высказывании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ректируйте тему нашего урока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х целей мы должны достигнуть на уроке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51" name="Picture 2" descr="1872. Портрет писателя Владимира Ивановича Даля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00360" y="1258920"/>
            <a:ext cx="2543040" cy="2981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47640" y="0"/>
            <a:ext cx="828036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Думаем, размышляем, предполаг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90720" y="1403280"/>
            <a:ext cx="8190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-41580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ите, что объединяет слова «азбуковник», «глоссарий», «словник»?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-41580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дать определение понятию «словарь»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вы думаете, словарь – это современное изобретение человечества? Аргументируйте свой ответ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положите, сколько лет словарному делу в России?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54" name="Picture 4" descr="http://tse2.mm.bing.net/th?id=OIP.Md8da5e233e60b7d5d2ebf0899fc17021H1"/>
          <p:cNvPicPr/>
          <p:nvPr/>
        </p:nvPicPr>
        <p:blipFill>
          <a:blip r:embed="rId1"/>
          <a:stretch/>
        </p:blipFill>
        <p:spPr>
          <a:xfrm>
            <a:off x="1800360" y="27000"/>
            <a:ext cx="2206440" cy="2052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clipartix.com/wp-content/uploads/2016/05/Man-thinking-clip-art-illustration-illustrations-by-leo-clipartcow-2.jpg"/>
          <p:cNvPicPr/>
          <p:nvPr/>
        </p:nvPicPr>
        <p:blipFill>
          <a:blip r:embed="rId1"/>
          <a:stretch/>
        </p:blipFill>
        <p:spPr>
          <a:xfrm>
            <a:off x="7486560" y="4994280"/>
            <a:ext cx="2627280" cy="2565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00000" y="-252360"/>
            <a:ext cx="828036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Вспоминаем, обобщ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55280" y="826920"/>
            <a:ext cx="842508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таблице «Виды лингвистических словарей и их значение» частично заполнены ячейки верхней строки таблицы.  Вам необходимо самостоятельно заполнить кластеры – вписать в пустые верхние ячейки  недостающие виды словарей, а в нижние – их значение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в парах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о интерактивной доске с обсуждением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00360" y="-252360"/>
            <a:ext cx="84247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Слушаем, систематизируем, об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71640" y="1287360"/>
            <a:ext cx="82152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класс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полнение таблицы «Известное/Новое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«Лингвисты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«Основные типы словарей. Энциклопедические и лингвистические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«Основные этапы развития словарного дела в России. Первые словарные труды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суждение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из того, что вы услышали, было уже знакомо?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новые сведения о словарях узнали? 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00360" y="-252360"/>
            <a:ext cx="84247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Вспоминаем, рас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71640" y="1287360"/>
            <a:ext cx="82152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ретий лишний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оварь синонимов, фразеологический словарь, философский словарь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вуязычный, одноязычный, этимологический.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лоссарий, азбуковник, лексикография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62" name="Picture 2" descr="http://images.bwog.com/wp-content/uploads/2012/12/shutterstock_108839963-250x174.jpg"/>
          <p:cNvPicPr/>
          <p:nvPr/>
        </p:nvPicPr>
        <p:blipFill>
          <a:blip r:embed="rId1"/>
          <a:stretch/>
        </p:blipFill>
        <p:spPr>
          <a:xfrm>
            <a:off x="5904000" y="4716360"/>
            <a:ext cx="3936960" cy="2739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00360" y="-252360"/>
            <a:ext cx="84247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Слушаем, об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64800" y="1127160"/>
            <a:ext cx="8215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«Биографы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я учебного видеоролика на тему «Вклад В.И.Даля в развитие словарного дела в России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класс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дготовить ”Толстые” и “тонкие” вопросы по теме учебного фильма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65" name="Picture 2" descr="http://www.stihi.ru/pics/2014/09/29/4229.jpg"/>
          <p:cNvPicPr/>
          <p:nvPr/>
        </p:nvPicPr>
        <p:blipFill>
          <a:blip r:embed="rId1"/>
          <a:stretch/>
        </p:blipFill>
        <p:spPr>
          <a:xfrm>
            <a:off x="3456000" y="4359240"/>
            <a:ext cx="467352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5:47:31Z</dcterms:created>
  <dc:creator/>
  <dc:description/>
  <dc:language>en-US</dc:language>
  <cp:lastModifiedBy>Samsung</cp:lastModifiedBy>
  <dcterms:modified xsi:type="dcterms:W3CDTF">2016-09-15T07:46:54Z</dcterms:modified>
  <cp:revision>57</cp:revision>
  <dc:subject/>
  <dc:title>Моё классное руководство </dc:title>
</cp:coreProperties>
</file>