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DB9A-FB40-44BA-B5BD-7E4E4474A8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B43E-09DB-45C2-BBE4-D799324B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73121-F6C3-4D4B-8D79-20051C1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A66FD-F9FA-4920-B48D-6AEE16E627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47C0-8930-4369-A033-6854E1AC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1396-CA30-4E0C-A978-B2CD3823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E994-CE86-4537-9C50-F06E539D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C6310-48E0-4D81-A889-3C12126F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9E47-00F9-409C-8EAE-F48B7869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E420-84F6-4380-9318-47EA5CA0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7DD4D-A075-45B6-947A-9F9F4BDF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42431-4F10-4CF4-857F-5BAFEC42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B07218-2AA3-4C20-9041-6C3703F03F8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ommons.wikimedia.org/wiki/File:1872._&#1055;&#1086;&#1088;&#1090;&#1088;&#1077;&#1090;_&#1087;&#1080;&#1089;&#1072;&#1090;&#1077;&#1083;&#1103;_&#1042;&#1083;&#1072;&#1076;&#1080;&#1084;&#1080;&#1088;&#1072;_&#1048;&#1074;&#1072;&#1085;&#1086;&#1074;&#1080;&#1095;&#1072;_&#1044;&#1072;&#1083;&#1103;.jpg?uselang=ru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8360" y="-181440"/>
            <a:ext cx="89280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16165d"/>
                </a:solidFill>
                <a:latin typeface="Monotype Corsiva"/>
              </a:rPr>
              <a:t>Он открыл рудник словесный…»</a:t>
            </a:r>
            <a:br>
              <a:rPr sz="5400"/>
            </a:br>
            <a:br>
              <a:rPr sz="5400"/>
            </a:br>
            <a:endParaRPr b="1" lang="en-US" sz="5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90720" y="1810800"/>
            <a:ext cx="797400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клад В. И. Даля в становление словарного дела в России.</a:t>
            </a: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рок русского языка в 7 класс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кова Татьяна Юрьевна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 1359 г. Москвы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/17 учебный год</a:t>
            </a: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Чит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55280" y="111600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ь В.И.Даля является делом всей его жизни. Однако о своем труде этот великий человек сказал скромно: «Я любил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из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нес ей должную мною крупицу по силам». Можем ли мы такое бескорыстное служение России считать подвигом? Что такое подвиг? Только ли героический поступок, яркое проявление самопожертвования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55280" y="-541800"/>
            <a:ext cx="842508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словарям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ыпишите из школьного толкового словаря определение слова «подвиг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м ли мы считать подвигом создание словаря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акими качествами обладал В. И. Даль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 чем проявился патриотизм этого великого человека? Для ответа на вопрос, используйте словарную статью к слову «патриотизм». Работа с толковым словаре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Запишите близкие по лексическому значению слова к выделенному слову. Проверьте себя по словарю синонимов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Скажите, в каком случае слова Родина, Отечество, Отчизна пишутся с прописной буквы, а в каком - со строчной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29484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5280" y="0"/>
            <a:ext cx="842508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4360" y="169236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 и скажите, как связаны тема урока, эпиграф к нему и значение труда В.И.Даля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2" name="Picture 2" descr="http://ru.timetodraft.com/upload/blog/578eda576b8b7.jpg"/>
          <p:cNvPicPr/>
          <p:nvPr/>
        </p:nvPicPr>
        <p:blipFill>
          <a:blip r:embed="rId1"/>
          <a:stretch/>
        </p:blipFill>
        <p:spPr>
          <a:xfrm>
            <a:off x="2735280" y="3348000"/>
            <a:ext cx="5794200" cy="3952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общаем, размышля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нание состоит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только  в запасе сведений,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умении  найти нужные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в книг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. Я. Брюсов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мнением В. Я. Брюсова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те жизненную ситуацию, в которой невозможно обойтись без словар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88000" indent="0" algn="just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5" name="Picture 2" descr="C:\Users\Samsung\Desktop\Словарный урок\telecom_termini[1].jpg"/>
          <p:cNvPicPr/>
          <p:nvPr/>
        </p:nvPicPr>
        <p:blipFill>
          <a:blip r:embed="rId1"/>
          <a:stretch/>
        </p:blipFill>
        <p:spPr>
          <a:xfrm>
            <a:off x="1246320" y="971640"/>
            <a:ext cx="249876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«Словарь», «В.И.Даль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выбор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высказывания: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знал… - Теперь я знаю…; Сегодня я понял …; Мне особенно понравилось …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8" name="Picture 2" descr="https://cv0.litres.ru/static/bookimages/22/84/47/22844705.bin.dir/22844705.cover.jpg"/>
          <p:cNvPicPr/>
          <p:nvPr/>
        </p:nvPicPr>
        <p:blipFill>
          <a:blip r:embed="rId1"/>
          <a:stretch/>
        </p:blipFill>
        <p:spPr>
          <a:xfrm>
            <a:off x="4103640" y="3924360"/>
            <a:ext cx="3419640" cy="34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ъясняем домашнее задание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писать сочинение-миниатюру на тему «Почему труд В.И.Даля можно назвать подвигом?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я понимаю высказывание: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бойтесь заглядывать в словарь,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ышный сад, а не  унылая пропасть»?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енный ответ на поставленный вопрос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дание для группы (3 человека). Используя информацию, полученную на уроке, а также сведения из интернет-ресурсов, подготовьте вопросы по теме сегодняшнего урока (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ем «Ромашка Блума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точняющие вопросы («Насколько я понял, 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претирующие вопросы (объясняющие) («Почему…?»)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е вопросы (прогноз)  - «Как вы думаете, что произойдёт, если…»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27432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3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55280" y="611280"/>
            <a:ext cx="8280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зентации использованы фотографии и картинки из интернет-ресурсов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ндекс. Картинки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yandex.ru/images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волшебная стран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распахнута пред вам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, которая словам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людьми, населен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 ими Государь по прозванию Словар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сится он к ни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но к подданным свои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ть ему не ново, как писать какое слово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исать и как чита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 другими сочетать…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.Козловский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57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5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варь –  это Вселенная,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ная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лфавитном порядке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Фран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гласны ли вы с высказыванием А. Франса? Аргументируйте свой ответ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8" name="Picture 6" descr="C:\Users\Samsung\Desktop\Словарный урок\книги.jpg"/>
          <p:cNvPicPr/>
          <p:nvPr/>
        </p:nvPicPr>
        <p:blipFill>
          <a:blip r:embed="rId1"/>
          <a:stretch/>
        </p:blipFill>
        <p:spPr>
          <a:xfrm>
            <a:off x="1727280" y="1262160"/>
            <a:ext cx="3097080" cy="3570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«Он откры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удник словесный…»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 ком пойдет речь на нашем уроке?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объясните метафору, заложенную в представленном высказыван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ректируйте тему нашего урока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целей мы должны достигнуть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1" name="Picture 2" descr="1872. Портрет писателя Владимира Ивановича Даля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00360" y="1258920"/>
            <a:ext cx="2543040" cy="2981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ожите, что объединяет слова «азбуковник», «глоссарий», «словник»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-41580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обуйте дать определение понятию «словарь»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 думаете, словарь – это современное изобретение человечества? Аргументируйте свой ответ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дположите, сколько лет словарному делу в России?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158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54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обобщ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таблице «Виды лингвистических словарей и их значение» частично заполнены ячейки верхней строки таблицы.  Вам необходимо самостоятельно заполнить кластеры – вписать в пустые верхние ячейки  недостающие виды словарей, а в нижние – их значение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в парах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по интерактивной доске с обсуждением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систематизиру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аполнение таблицы «Известное/Ново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Лингвист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«Основные типы словарей. Энциклопедические и лингвистические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«Основные этапы развития словарного дела в России. Первые словарные труд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суждение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из того, что вы услышали, было уже знакомо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новые сведения о словарях узнали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Вспоминаем, рас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71640" y="1287360"/>
            <a:ext cx="82152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ретий лишний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варь синонимов, фразеологический словарь, философский словарь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уязычный, одноязычный, этимологический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лоссарий, азбуковник, лексикография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2" name="Picture 2" descr="http://images.bwog.com/wp-content/uploads/2012/12/shutterstock_108839963-250x174.jpg"/>
          <p:cNvPicPr/>
          <p:nvPr/>
        </p:nvPicPr>
        <p:blipFill>
          <a:blip r:embed="rId1"/>
          <a:stretch/>
        </p:blipFill>
        <p:spPr>
          <a:xfrm>
            <a:off x="5904000" y="4716360"/>
            <a:ext cx="3936960" cy="2739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00360" y="-252360"/>
            <a:ext cx="84247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Слушаем, обсужд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64800" y="1127160"/>
            <a:ext cx="8215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«Биографы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я учебного видеоролика на тему «Вклад В.И.Даля в развитие словарного дела в России»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 классу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дготовить ”Толстые” и “тонкие” вопросы по теме учебного фильма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65" name="Picture 2" descr="http://www.stihi.ru/pics/2014/09/29/4229.jpg"/>
          <p:cNvPicPr/>
          <p:nvPr/>
        </p:nvPicPr>
        <p:blipFill>
          <a:blip r:embed="rId1"/>
          <a:stretch/>
        </p:blipFill>
        <p:spPr>
          <a:xfrm>
            <a:off x="3456000" y="4359240"/>
            <a:ext cx="4673520" cy="3200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Samsung</cp:lastModifiedBy>
  <dcterms:modified xsi:type="dcterms:W3CDTF">2016-09-15T07:46:54Z</dcterms:modified>
  <cp:revision>57</cp:revision>
  <dc:subject/>
  <dc:title>Моё классное руководство </dc:title>
</cp:coreProperties>
</file>