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1AF7B-D109-4083-8876-AE5811268A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90720" y="-214200"/>
            <a:ext cx="784224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7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90720" y="1811160"/>
            <a:ext cx="78422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90720" y="4416840"/>
            <a:ext cx="78422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FC844-E032-4145-BE57-60E246C13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90720" y="-214200"/>
            <a:ext cx="784224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7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90720" y="1811160"/>
            <a:ext cx="382680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09400" y="1811160"/>
            <a:ext cx="382680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90720" y="4416840"/>
            <a:ext cx="382680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09400" y="4416840"/>
            <a:ext cx="382680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5EAB2-331F-42FC-8B87-A88E15C1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90720" y="-214200"/>
            <a:ext cx="784224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7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90720" y="1811160"/>
            <a:ext cx="25250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42480" y="1811160"/>
            <a:ext cx="25250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94240" y="1811160"/>
            <a:ext cx="25250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90720" y="4416840"/>
            <a:ext cx="25250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42480" y="4416840"/>
            <a:ext cx="25250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94240" y="4416840"/>
            <a:ext cx="25250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392E5-832C-40AC-BF47-3FEEC6A3CE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90720" y="-214200"/>
            <a:ext cx="784224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7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90720" y="1811160"/>
            <a:ext cx="7842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DD5F3-EF6E-455F-85B5-8F5CEDD4A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90720" y="-214200"/>
            <a:ext cx="784224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7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90720" y="1811160"/>
            <a:ext cx="784224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834AA-96B9-44D8-BE3F-2BBA7C5A6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90720" y="-214200"/>
            <a:ext cx="784224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7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90720" y="1811160"/>
            <a:ext cx="382680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09400" y="1811160"/>
            <a:ext cx="382680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27478-5058-401D-B95E-698E6BBD9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90720" y="-214200"/>
            <a:ext cx="784224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7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2840A-9629-4EB6-A9D6-3B410194F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90720" y="-214200"/>
            <a:ext cx="7842240" cy="107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197B6-42ED-4727-AF6F-583CB2B01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90720" y="-214200"/>
            <a:ext cx="784224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7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90720" y="1811160"/>
            <a:ext cx="382680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09400" y="1811160"/>
            <a:ext cx="382680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90720" y="4416840"/>
            <a:ext cx="382680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9C0CF-C4CE-49A2-BA3A-62E564C51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90720" y="-214200"/>
            <a:ext cx="784224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7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90720" y="1811160"/>
            <a:ext cx="382680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09400" y="1811160"/>
            <a:ext cx="382680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09400" y="4416840"/>
            <a:ext cx="382680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B7E05-A1ED-4C11-9EC5-75D9A40DE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90720" y="-214200"/>
            <a:ext cx="784224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7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90720" y="1811160"/>
            <a:ext cx="382680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09400" y="1811160"/>
            <a:ext cx="382680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90720" y="4416840"/>
            <a:ext cx="78422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5B7A6-2DC1-4C5B-88F1-75B1757AD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90720" y="-214200"/>
            <a:ext cx="784224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5700" spc="-1" strike="noStrike">
                <a:solidFill>
                  <a:srgbClr val="2e3917"/>
                </a:solidFill>
                <a:latin typeface="Calibri"/>
              </a:rPr>
              <a:t>Click to edit the title text format</a:t>
            </a:r>
            <a:endParaRPr b="1" lang="en-US" sz="57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90720" y="1811160"/>
            <a:ext cx="784224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4f6228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  <a:p>
            <a:pPr lvl="1"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4f6228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  <a:p>
            <a:pPr lvl="2"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4f6228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  <a:p>
            <a:pPr lvl="3"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4f6228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  <a:p>
            <a:pPr lvl="4"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4f6228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  <a:p>
            <a:pPr lvl="5"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4f6228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  <a:p>
            <a:pPr lvl="6"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4f6228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005240"/>
            <a:ext cx="235116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443400" y="7005600"/>
            <a:ext cx="31924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222680" y="7005240"/>
            <a:ext cx="235116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16F3CD3-7EE9-4848-9F9C-6DC799E1E9D3}" type="slidenum"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commons.wikimedia.org/wiki/File:1872._&#1055;&#1086;&#1088;&#1090;&#1088;&#1077;&#1090;_&#1087;&#1080;&#1089;&#1072;&#1090;&#1077;&#1083;&#1103;_&#1042;&#1083;&#1072;&#1076;&#1080;&#1084;&#1080;&#1088;&#1072;_&#1048;&#1074;&#1072;&#1085;&#1086;&#1074;&#1080;&#1095;&#1072;_&#1044;&#1072;&#1083;&#1103;.jpg?uselang=ru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68360" y="-181440"/>
            <a:ext cx="89280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«</a:t>
            </a:r>
            <a:r>
              <a:rPr b="1" lang="ru-RU" sz="5400" spc="-1" strike="noStrike">
                <a:solidFill>
                  <a:srgbClr val="16165d"/>
                </a:solidFill>
                <a:latin typeface="Monotype Corsiva"/>
              </a:rPr>
              <a:t>Он открыл рудник словесный…»</a:t>
            </a:r>
            <a:br>
              <a:rPr sz="5400"/>
            </a:br>
            <a:br>
              <a:rPr sz="5400"/>
            </a:br>
            <a:endParaRPr b="1" lang="en-US" sz="5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890720" y="1810800"/>
            <a:ext cx="7974000" cy="54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4f6228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Вклад В. И. Даля в становление словарного дела в России.</a:t>
            </a:r>
            <a:endParaRPr b="0" lang="en-US" sz="4000" spc="-1" strike="noStrike">
              <a:solidFill>
                <a:srgbClr val="4f6228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4f6228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Урок русского языка в 7 классе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кова Татьяна Юрьевна</a:t>
            </a:r>
            <a:endParaRPr b="0" lang="en-US" sz="2400" spc="-1" strike="noStrike">
              <a:solidFill>
                <a:srgbClr val="4f6228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русского языка и литературы</a:t>
            </a:r>
            <a:endParaRPr b="0" lang="en-US" sz="2000" spc="-1" strike="noStrike">
              <a:solidFill>
                <a:srgbClr val="4f6228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ОУ Школа № 1359 г. Москвы</a:t>
            </a:r>
            <a:endParaRPr b="0" lang="en-US" sz="2000" spc="-1" strike="noStrike">
              <a:solidFill>
                <a:srgbClr val="4f6228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6 /17 учебный год</a:t>
            </a:r>
            <a:endParaRPr b="0" lang="en-US" sz="1600" spc="-1" strike="noStrike">
              <a:solidFill>
                <a:srgbClr val="4f6228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4f6228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00360" y="-252360"/>
            <a:ext cx="842472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6165d"/>
                </a:solidFill>
                <a:latin typeface="Monotype Corsiva"/>
              </a:rPr>
              <a:t>Читаем, рассуждаем…</a:t>
            </a:r>
            <a:endParaRPr b="1" lang="en-US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55280" y="1116000"/>
            <a:ext cx="821556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рь В.И.Даля является делом всей его жизни. Однако о своем труде этот великий человек сказал скромно: «Я любил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изну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принес ей должную мною крупицу по силам». Можем ли мы такое бескорыстное служение России считать подвигом? Что такое подвиг? Только ли героический поступок, яркое проявление самопожертвования? 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55280" y="-541800"/>
            <a:ext cx="842508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6165d"/>
                </a:solidFill>
                <a:latin typeface="Monotype Corsiva"/>
              </a:rPr>
              <a:t>Обратимся к словарям</a:t>
            </a:r>
            <a:endParaRPr b="1" lang="en-US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55280" y="611280"/>
            <a:ext cx="842508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just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Выпишите из школьного толкового словаря определение слова «подвиг».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м ли мы считать подвигом создание словаря? 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294840" indent="0" algn="just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Какими качествами обладал В. И. Даль?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294840" indent="0" algn="just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В чем проявился патриотизм этого великого человека? Для ответа на вопрос, используйте словарную статью к слову «патриотизм». Работа с толковым словарем.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294840" indent="0" algn="just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Запишите близкие по лексическому значению слова к выделенному слову. Проверьте себя по словарю синонимов 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294840" indent="0" algn="just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Скажите, в каком случае слова Родина, Отечество, Отчизна пишутся с прописной буквы, а в каком - со строчной?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294840" indent="0" algn="just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55280" y="0"/>
            <a:ext cx="842508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6165d"/>
                </a:solidFill>
                <a:latin typeface="Monotype Corsiva"/>
              </a:rPr>
              <a:t>Обобщаем, размышляем, обсуждаем…</a:t>
            </a:r>
            <a:endParaRPr b="1" lang="en-US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84360" y="1692360"/>
            <a:ext cx="8424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умайте и скажите, как связаны тема урока, эпиграф к нему и значение труда В.И.Даля?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pic>
        <p:nvPicPr>
          <p:cNvPr id="72" name="Picture 2" descr="http://ru.timetodraft.com/upload/blog/578eda576b8b7.jpg"/>
          <p:cNvPicPr/>
          <p:nvPr/>
        </p:nvPicPr>
        <p:blipFill>
          <a:blip r:embed="rId1"/>
          <a:stretch/>
        </p:blipFill>
        <p:spPr>
          <a:xfrm>
            <a:off x="2735280" y="3348000"/>
            <a:ext cx="5794200" cy="3952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1520" y="-108360"/>
            <a:ext cx="853920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6165d"/>
                </a:solidFill>
                <a:latin typeface="Monotype Corsiva"/>
              </a:rPr>
              <a:t>Обобщаем, размышляем, обсуждаем…</a:t>
            </a:r>
            <a:endParaRPr b="1" lang="en-US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638360" y="971640"/>
            <a:ext cx="8424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нание состоит 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288000" indent="0" algn="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только  в запасе сведений, 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288000" indent="0" algn="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в умении  найти нужные 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288000" indent="0" algn="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в книге»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288000" indent="0" algn="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. Я. Брюсов)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28800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28800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28800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гласны ли вы с мнением В. Я. Брюсова?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28800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пишите жизненную ситуацию, в которой невозможно обойтись без словаря.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288000" indent="0" algn="just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pic>
        <p:nvPicPr>
          <p:cNvPr id="75" name="Picture 2" descr="C:\Users\Samsung\Desktop\Словарный урок\telecom_termini[1].jpg"/>
          <p:cNvPicPr/>
          <p:nvPr/>
        </p:nvPicPr>
        <p:blipFill>
          <a:blip r:embed="rId1"/>
          <a:stretch/>
        </p:blipFill>
        <p:spPr>
          <a:xfrm>
            <a:off x="1246320" y="971640"/>
            <a:ext cx="2498760" cy="3744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41520" y="-108360"/>
            <a:ext cx="853920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6165d"/>
                </a:solidFill>
                <a:latin typeface="Monotype Corsiva"/>
              </a:rPr>
              <a:t>Подводим  итоги…</a:t>
            </a:r>
            <a:endParaRPr b="1" lang="en-US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638360" y="971640"/>
            <a:ext cx="8424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квейн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тему «Словарь», «В.И.Даль» 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 выбор)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чите высказывания: 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не знал… - Теперь я знаю…; Сегодня я понял …; Мне особенно понравилось …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pic>
        <p:nvPicPr>
          <p:cNvPr id="78" name="Picture 2" descr="https://cv0.litres.ru/static/bookimages/22/84/47/22844705.bin.dir/22844705.cover.jpg"/>
          <p:cNvPicPr/>
          <p:nvPr/>
        </p:nvPicPr>
        <p:blipFill>
          <a:blip r:embed="rId1"/>
          <a:stretch/>
        </p:blipFill>
        <p:spPr>
          <a:xfrm>
            <a:off x="4103640" y="3924360"/>
            <a:ext cx="3419640" cy="3417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41520" y="-396720"/>
            <a:ext cx="853920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6165d"/>
                </a:solidFill>
                <a:latin typeface="Monotype Corsiva"/>
              </a:rPr>
              <a:t>Объясняем домашнее задание</a:t>
            </a:r>
            <a:endParaRPr b="1" lang="en-US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655640" y="611280"/>
            <a:ext cx="878544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машнее задание на выбор.</a:t>
            </a:r>
            <a:endParaRPr b="0" lang="en-US" sz="2400" spc="-1" strike="noStrike">
              <a:solidFill>
                <a:srgbClr val="4f6228"/>
              </a:solidFill>
              <a:latin typeface="Calibri"/>
            </a:endParaRPr>
          </a:p>
          <a:p>
            <a:pPr marL="27432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Написать сочинение-миниатюру на тему «Почему труд В.И.Даля можно назвать подвигом?»</a:t>
            </a:r>
            <a:endParaRPr b="0" lang="en-US" sz="2400" spc="-1" strike="noStrike">
              <a:solidFill>
                <a:srgbClr val="4f6228"/>
              </a:solidFill>
              <a:latin typeface="Calibri"/>
            </a:endParaRPr>
          </a:p>
          <a:p>
            <a:pPr marL="27432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к я понимаю высказывание:</a:t>
            </a:r>
            <a:endParaRPr b="0" lang="en-US" sz="2400" spc="-1" strike="noStrike">
              <a:solidFill>
                <a:srgbClr val="4f6228"/>
              </a:solidFill>
              <a:latin typeface="Calibri"/>
            </a:endParaRPr>
          </a:p>
          <a:p>
            <a:pPr marL="27432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е бойтесь заглядывать в словарь,</a:t>
            </a:r>
            <a:endParaRPr b="0" lang="en-US" sz="2400" spc="-1" strike="noStrike">
              <a:solidFill>
                <a:srgbClr val="4f6228"/>
              </a:solidFill>
              <a:latin typeface="Calibri"/>
            </a:endParaRPr>
          </a:p>
          <a:p>
            <a:pPr marL="27432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ышный сад, а не  унылая пропасть»?</a:t>
            </a:r>
            <a:endParaRPr b="0" lang="en-US" sz="2400" spc="-1" strike="noStrike">
              <a:solidFill>
                <a:srgbClr val="4f6228"/>
              </a:solidFill>
              <a:latin typeface="Calibri"/>
            </a:endParaRPr>
          </a:p>
          <a:p>
            <a:pPr marL="27432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енный ответ на поставленный вопрос.</a:t>
            </a:r>
            <a:endParaRPr b="0" lang="en-US" sz="2400" spc="-1" strike="noStrike">
              <a:solidFill>
                <a:srgbClr val="4f6228"/>
              </a:solidFill>
              <a:latin typeface="Calibri"/>
            </a:endParaRPr>
          </a:p>
          <a:p>
            <a:pPr marL="27432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Задание для группы (3 человека). Используя информацию, полученную на уроке, а также сведения из интернет-ресурсов, подготовьте вопросы по теме сегодняшнего урока (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ем «Ромашка Блума»)</a:t>
            </a:r>
            <a:endParaRPr b="0" lang="en-US" sz="2400" spc="-1" strike="noStrike">
              <a:solidFill>
                <a:srgbClr val="4f6228"/>
              </a:solidFill>
              <a:latin typeface="Calibri"/>
            </a:endParaRPr>
          </a:p>
          <a:p>
            <a:pPr marL="27432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точняющие вопросы («Насколько я понял, …?»)</a:t>
            </a:r>
            <a:endParaRPr b="0" lang="en-US" sz="2400" spc="-1" strike="noStrike">
              <a:solidFill>
                <a:srgbClr val="4f6228"/>
              </a:solidFill>
              <a:latin typeface="Calibri"/>
            </a:endParaRPr>
          </a:p>
          <a:p>
            <a:pPr marL="27432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терпретирующие вопросы (объясняющие) («Почему…?»)</a:t>
            </a:r>
            <a:endParaRPr b="0" lang="en-US" sz="2400" spc="-1" strike="noStrike">
              <a:solidFill>
                <a:srgbClr val="4f6228"/>
              </a:solidFill>
              <a:latin typeface="Calibri"/>
            </a:endParaRPr>
          </a:p>
          <a:p>
            <a:pPr marL="27432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ворческие вопросы (прогноз)  - «Как вы думаете, что произойдёт, если…»</a:t>
            </a:r>
            <a:endParaRPr b="0" lang="en-US" sz="2400" spc="-1" strike="noStrike">
              <a:solidFill>
                <a:srgbClr val="4f6228"/>
              </a:solidFill>
              <a:latin typeface="Calibri"/>
            </a:endParaRPr>
          </a:p>
          <a:p>
            <a:pPr marL="27432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f6228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1520" y="-396720"/>
            <a:ext cx="853920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16165d"/>
              </a:solidFill>
              <a:latin typeface="Monotype Corsiv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55640" y="611280"/>
            <a:ext cx="878544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сегодня очень хорошо потрудились!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!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pic>
        <p:nvPicPr>
          <p:cNvPr id="83" name="Picture 2" descr="http://www.cdpprofi.ru/datas/dictionary/dictionary.jpg"/>
          <p:cNvPicPr/>
          <p:nvPr/>
        </p:nvPicPr>
        <p:blipFill>
          <a:blip r:embed="rId1"/>
          <a:stretch/>
        </p:blipFill>
        <p:spPr>
          <a:xfrm>
            <a:off x="1800360" y="3273480"/>
            <a:ext cx="8067600" cy="26766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1520" y="-396720"/>
            <a:ext cx="853920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16165d"/>
              </a:solidFill>
              <a:latin typeface="Monotype Corsiv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655280" y="611280"/>
            <a:ext cx="828036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езентации использованы фотографии и картинки из интернет-ресурсов 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Яндекс. Картинки)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s://yandex.ru/images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55280" y="-18000"/>
            <a:ext cx="828036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6165d"/>
                </a:solidFill>
                <a:latin typeface="Monotype Corsiva"/>
              </a:rPr>
              <a:t>Определите тему и основную мысль стихотворения</a:t>
            </a:r>
            <a:endParaRPr b="1" lang="en-US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890720" y="1403280"/>
            <a:ext cx="819000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76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576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волшебная страна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распахнута пред вам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, которая словами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людьми, населен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т ими Государь по прозванию Словарь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тносится он к ним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но к подданным свои.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576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ать ему не ново, как писать какое слово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исать и как читать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с другими сочетать…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.Козловский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576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чем мы будем говорить сегодня на уроке?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</p:txBody>
      </p:sp>
      <p:pic>
        <p:nvPicPr>
          <p:cNvPr id="45" name="Picture 8" descr="http://www.vestikavkaza.ru/upload/fnorm/iblock/2bb/del04-15.jpg"/>
          <p:cNvPicPr/>
          <p:nvPr/>
        </p:nvPicPr>
        <p:blipFill>
          <a:blip r:embed="rId1"/>
          <a:stretch/>
        </p:blipFill>
        <p:spPr>
          <a:xfrm>
            <a:off x="6335640" y="1332000"/>
            <a:ext cx="3429000" cy="23619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55280" y="-18000"/>
            <a:ext cx="828036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6165d"/>
                </a:solidFill>
                <a:latin typeface="Monotype Corsiva"/>
              </a:rPr>
              <a:t>Обратимся к эпиграфу нашего урока </a:t>
            </a:r>
            <a:endParaRPr b="1" lang="en-US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890720" y="1403280"/>
            <a:ext cx="819000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ловарь –  это Вселенная,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ложенная 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лфавитном порядке» 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.Франс)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гласны ли вы с высказыванием А. Франса? Аргументируйте свой ответ.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</p:txBody>
      </p:sp>
      <p:pic>
        <p:nvPicPr>
          <p:cNvPr id="48" name="Picture 6" descr="C:\Users\Samsung\Desktop\Словарный урок\книги.jpg"/>
          <p:cNvPicPr/>
          <p:nvPr/>
        </p:nvPicPr>
        <p:blipFill>
          <a:blip r:embed="rId1"/>
          <a:stretch/>
        </p:blipFill>
        <p:spPr>
          <a:xfrm>
            <a:off x="1727280" y="1262160"/>
            <a:ext cx="3097080" cy="3570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55280" y="-108360"/>
            <a:ext cx="828036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6165d"/>
                </a:solidFill>
                <a:latin typeface="Monotype Corsiva"/>
              </a:rPr>
              <a:t>Знаете ли вы, о ком данное высказывание? </a:t>
            </a:r>
            <a:endParaRPr b="1" lang="en-US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890720" y="1403280"/>
            <a:ext cx="819000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«Он открыл 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15360" indent="0" algn="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рудник словесный…» 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1536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31536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31536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31536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 ком пойдет речь на нашем уроке? 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ы объясните метафору, заложенную в представленном высказывании?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ректируйте тему нашего урока.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х целей мы должны достигнуть на уроке?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</p:txBody>
      </p:sp>
      <p:pic>
        <p:nvPicPr>
          <p:cNvPr id="51" name="Picture 2" descr="1872. Портрет писателя Владимира Ивановича Даля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00360" y="1258920"/>
            <a:ext cx="2543040" cy="2981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47640" y="0"/>
            <a:ext cx="828036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6165d"/>
                </a:solidFill>
                <a:latin typeface="Monotype Corsiva"/>
              </a:rPr>
              <a:t>Думаем, размышляем, предполагаем…</a:t>
            </a:r>
            <a:endParaRPr b="1" lang="en-US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890720" y="1403280"/>
            <a:ext cx="819000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415800" indent="-415800">
              <a:lnSpc>
                <a:spcPct val="100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-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ожите, что объединяет слова «азбуковник», «глоссарий», «словник»? 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415800" indent="-415800">
              <a:lnSpc>
                <a:spcPct val="100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-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робуйте дать определение понятию «словарь».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41580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к вы думаете, словарь – это современное изобретение человечества? Аргументируйте свой ответ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41580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едположите, сколько лет словарному делу в России? 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41580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41580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pic>
        <p:nvPicPr>
          <p:cNvPr id="54" name="Picture 4" descr="http://tse2.mm.bing.net/th?id=OIP.Md8da5e233e60b7d5d2ebf0899fc17021H1"/>
          <p:cNvPicPr/>
          <p:nvPr/>
        </p:nvPicPr>
        <p:blipFill>
          <a:blip r:embed="rId1"/>
          <a:stretch/>
        </p:blipFill>
        <p:spPr>
          <a:xfrm>
            <a:off x="1800360" y="27000"/>
            <a:ext cx="2206440" cy="2052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http://clipartix.com/wp-content/uploads/2016/05/Man-thinking-clip-art-illustration-illustrations-by-leo-clipartcow-2.jpg"/>
          <p:cNvPicPr/>
          <p:nvPr/>
        </p:nvPicPr>
        <p:blipFill>
          <a:blip r:embed="rId1"/>
          <a:stretch/>
        </p:blipFill>
        <p:spPr>
          <a:xfrm>
            <a:off x="7486560" y="4994280"/>
            <a:ext cx="2627280" cy="25653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00000" y="-252360"/>
            <a:ext cx="828036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6165d"/>
                </a:solidFill>
                <a:latin typeface="Monotype Corsiva"/>
              </a:rPr>
              <a:t>Вспоминаем, обобщаем…</a:t>
            </a:r>
            <a:endParaRPr b="1" lang="en-US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55280" y="826920"/>
            <a:ext cx="842508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 таблице «Виды лингвистических словарей и их значение» частично заполнены ячейки верхней строки таблицы.  Вам необходимо самостоятельно заполнить кластеры – вписать в пустые верхние ячейки  недостающие виды словарей, а в нижние – их значение.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уждение в парах.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по интерактивной доске с обсуждением.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00360" y="-252360"/>
            <a:ext cx="842472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6165d"/>
                </a:solidFill>
                <a:latin typeface="Monotype Corsiva"/>
              </a:rPr>
              <a:t>Слушаем, систематизируем, обсуждаем…</a:t>
            </a:r>
            <a:endParaRPr b="1" lang="en-US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71640" y="1287360"/>
            <a:ext cx="821520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классу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заполнение таблицы «Известное/Новое»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а «Лингвисты»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«Основные типы словарей. Энциклопедические и лингвистические»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«Основные этапы развития словарного дела в России. Первые словарные труды»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суждение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из того, что вы услышали, было уже знакомо?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новые сведения о словарях узнали?  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00360" y="-252360"/>
            <a:ext cx="842472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6165d"/>
                </a:solidFill>
                <a:latin typeface="Monotype Corsiva"/>
              </a:rPr>
              <a:t>Вспоминаем, рассуждаем…</a:t>
            </a:r>
            <a:endParaRPr b="1" lang="en-US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71640" y="1287360"/>
            <a:ext cx="821520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ретий лишний»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ловарь синонимов, фразеологический словарь, философский словарь.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вуязычный, одноязычный, этимологический. 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лоссарий, азбуковник, лексикография.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pic>
        <p:nvPicPr>
          <p:cNvPr id="62" name="Picture 2" descr="http://images.bwog.com/wp-content/uploads/2012/12/shutterstock_108839963-250x174.jpg"/>
          <p:cNvPicPr/>
          <p:nvPr/>
        </p:nvPicPr>
        <p:blipFill>
          <a:blip r:embed="rId1"/>
          <a:stretch/>
        </p:blipFill>
        <p:spPr>
          <a:xfrm>
            <a:off x="5904000" y="4716360"/>
            <a:ext cx="3936960" cy="27399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00360" y="-252360"/>
            <a:ext cx="842472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6165d"/>
                </a:solidFill>
                <a:latin typeface="Monotype Corsiva"/>
              </a:rPr>
              <a:t>Слушаем, обсуждаем…</a:t>
            </a:r>
            <a:endParaRPr b="1" lang="en-US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864800" y="1127160"/>
            <a:ext cx="821556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а «Биографы»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монстрация учебного видеоролика на тему «Вклад В.И.Даля в развитие словарного дела в России»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ние классу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одготовить ”Толстые” и “тонкие” вопросы по теме учебного фильма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pic>
        <p:nvPicPr>
          <p:cNvPr id="65" name="Picture 2" descr="http://www.stihi.ru/pics/2014/09/29/4229.jpg"/>
          <p:cNvPicPr/>
          <p:nvPr/>
        </p:nvPicPr>
        <p:blipFill>
          <a:blip r:embed="rId1"/>
          <a:stretch/>
        </p:blipFill>
        <p:spPr>
          <a:xfrm>
            <a:off x="3456000" y="4359240"/>
            <a:ext cx="4673520" cy="32004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15:47:31Z</dcterms:created>
  <dc:creator/>
  <dc:description/>
  <dc:language>en-US</dc:language>
  <cp:lastModifiedBy>Samsung</cp:lastModifiedBy>
  <dcterms:modified xsi:type="dcterms:W3CDTF">2016-09-15T07:46:54Z</dcterms:modified>
  <cp:revision>57</cp:revision>
  <dc:subject/>
  <dc:title>Моё классное руководство </dc:title>
</cp:coreProperties>
</file>